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54A3D-B81E-438B-A562-FC3439041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0ADC0-D265-4BAB-AFB6-7B1A2321B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7A29B-D258-40C2-B1B5-9B4C6E352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897CA-D776-48D4-B1E1-0D14C79E5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B818A-112E-48B2-BF6D-1C6A49842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F48A7-724F-4B07-B4AA-D3A1B1123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E5982-7C7D-4E49-8667-0ECD75D3B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00BA3-47CE-427D-9E31-48313FFA5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FFD53-3DA8-4EFD-9908-3D4CB396E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53A22-9BEB-4C9A-9527-BD9CF2665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EC785-7166-4560-8D8F-D7AF76569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AD724-56B6-4516-855D-76C696031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5BC13-678A-40C7-B699-B7050807F1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3429000" y="3352680"/>
            <a:ext cx="22096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99ccff"/>
                  </a:solidFill>
                  <a:miter/>
                </a:ln>
                <a:solidFill>
                  <a:srgbClr val="0066cc"/>
                </a:solidFill>
                <a:effectLst>
                  <a:outerShdw dist="17819" dir="2700000" blurRad="0" rotWithShape="0">
                    <a:srgbClr val="990000"/>
                  </a:outerShdw>
                </a:effectLst>
                <a:latin typeface="Impact"/>
              </a:rPr>
              <a:t>Sesiunea iunie - iulie</a:t>
            </a:r>
            <a:endParaRPr b="0" lang="en-US" sz="2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advTm="5000">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8" name="Picture 6" descr=""/>
          <p:cNvPicPr/>
          <p:nvPr/>
        </p:nvPicPr>
        <p:blipFill>
          <a:blip r:embed="rId1"/>
          <a:stretch/>
        </p:blipFill>
        <p:spPr>
          <a:xfrm>
            <a:off x="4952880" y="1447920"/>
            <a:ext cx="3600720" cy="3600360"/>
          </a:xfrm>
          <a:prstGeom prst="rect">
            <a:avLst/>
          </a:prstGeom>
          <a:ln w="0">
            <a:noFill/>
          </a:ln>
        </p:spPr>
      </p:pic>
    </p:spTree>
  </p:cSld>
  <p:transition advTm="5000">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p:transition advTm="5000">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cp:lastModifiedBy>
  <dcterms:modified xsi:type="dcterms:W3CDTF">2012-06-18T11:07:53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